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FB8-2A76-415B-8D08-7FFC4971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85E-AB0B-44DE-ACA5-42865CAD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530-2FBC-42B2-B12A-BBDE2C82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718-DBED-43BA-B3E8-02C0C140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F560-D208-4183-81E4-5A9B4BC0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777A-BFC0-4B63-8357-69924F8E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DA27-224D-43DB-8C14-2130061B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F254-7AE3-48B5-9947-037D05A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CA70-C9B6-4D8A-A179-B7E6C229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A720-3EB3-4FFB-AFF6-356052EC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E4F8-39EB-44F1-9383-C4F7657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25C-ABEE-4133-BB71-1DA0D8BA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E8BA-BA66-4438-BF60-8445762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FFB0-F0CA-44A7-AFA5-35C5C666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1E7A-1C66-4596-A821-6AA31CC8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2B59-577C-4CA0-A05C-F8D052DB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FEB9-117E-4BA5-A9BF-3B384456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7A05-65B0-4B8A-AAD1-423B4E72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0EDC-655C-4512-95F1-C9AD725D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5C15-FAB1-47EA-B8A1-F5B1BCB7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E07F-8BE4-4647-B26D-D8CF355E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C0FA-7344-482C-9C1D-66425ABC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6BF-9D6A-4710-830B-FC4FE69A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3BBC-2761-455E-93CF-2EA94F44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0C45-E6A5-478E-BE2E-893D931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B98A-7D44-4901-8CB7-FE5B7279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4C21-06BF-471A-A3E2-55F14C24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3E07-1FA9-4EEE-B032-749A0C90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B624-329A-4043-A07A-884EA0A8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3081-428C-4A53-9355-724DD98D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C982-9854-461F-B273-1ED2DF71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9696-3074-480A-BA83-123B57CF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AABA7-FA11-49FF-AEA2-5C5861E9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8F3-0250-45FC-925A-F48E004A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7FA7A-DC5B-4256-86D8-1B8483D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D9F7-4A6E-4F94-B53A-F27CB597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D810-5119-4C2C-A0C4-3DA6BC88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0C7C-01AA-4489-B033-C9356447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F90A-4BAD-471E-BB3D-B2477C2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DF6E-AA67-4226-B82A-10A4EF62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66A3-3975-4BA7-B965-EBC5DED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525E-41E8-4B1F-8A02-25D570C7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93C7-1D98-4BC6-91DD-E58875F8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2CC-3397-4B9D-88D7-7A53B617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345-2686-4B00-BCB2-F3D0E883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960-1CE1-486D-897F-DDF3084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887-4E94-4535-A638-2E7990AB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4E1-A502-44B8-9890-5BC8AAE2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055F-CCDF-469A-858E-04A3056FC8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8DFA-7C85-48D1-A3E3-95F4293B22C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A7AC-B955-4E21-A309-470A5159120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F2A-007F-4E12-85A0-8C41B94A12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9680" y="695160"/>
            <a:ext cx="9016920" cy="2578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00280"/>
            <a:ext cx="7854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 Терентьев Григорий Владимиро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удент 4 кур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изико-математического факультета КГП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якишев Г.Я. , Буховцев Б.Б. Физика – 11. М. 199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еснин Р.В., Яковлев В.Ф. Курс физики. Электричество. М. 197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орский Б.М., Пинский А.А. Основы физики. т. 2. М. 198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ru.wikipedia.org/wiki/Электромагнитное_излуч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physics.ru/courses/op25part2/content/chapter2/section/paragraph6/theory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bse.sci-lib.com/article126043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ossary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g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h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g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drlqywusgjtoy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ur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Основополагающий вопрос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 чего создан мир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1857240" y="2857680"/>
            <a:ext cx="5324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ные воп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какое время услышат мой голос на сатурн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потрогать св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обретали ради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Учебные вопрос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волна и какими характеристиками она обусловлен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экспериментально доказывают существование электромагнитных волн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отность потока электромагнитного излуч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обретали ради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модуляция и детектирова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радиоволн и их распростран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7120" y="7045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едставление результатов исследования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бл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ы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общ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то – репорта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чное зад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4143240" y="2428920"/>
            <a:ext cx="40705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Будем изучать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волна и ее характерис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волн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спериментальное доказательство существова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х вол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отность потока электромагнитного излуч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обретение ради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йства электромагнитных вол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дуляция и детектиро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радиоволн и их распростран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3" descr=""/>
          <p:cNvPicPr/>
          <p:nvPr/>
        </p:nvPicPr>
        <p:blipFill>
          <a:blip r:embed="rId1"/>
          <a:stretch/>
        </p:blipFill>
        <p:spPr>
          <a:xfrm>
            <a:off x="4714920" y="285840"/>
            <a:ext cx="36432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пределение изучения те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214280"/>
          <a:ext cx="8229600" cy="5353200"/>
        </p:xfrm>
        <a:graphic>
          <a:graphicData uri="http://schemas.openxmlformats.org/drawingml/2006/table">
            <a:tbl>
              <a:tblPr/>
              <a:tblGrid>
                <a:gridCol w="971640"/>
                <a:gridCol w="3714840"/>
                <a:gridCol w="148572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исло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ы ис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нятие волна и ее 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омагнитные вол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кспериментальное доказательство существовани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омагнитных вол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отность потока электромагнитного изл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обретение рад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войства электромагнитных вол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дуляция и детек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ды радиоволн и их распростра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Продолжительность проекта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714400"/>
            <a:ext cx="8229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2 недели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500040" y="2357280"/>
            <a:ext cx="2508120" cy="39164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"/>
          <p:cNvPicPr/>
          <p:nvPr/>
        </p:nvPicPr>
        <p:blipFill>
          <a:blip r:embed="rId2"/>
          <a:stretch/>
        </p:blipFill>
        <p:spPr>
          <a:xfrm>
            <a:off x="6143760" y="2500200"/>
            <a:ext cx="243684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Этапы проведения проекта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бор и формулировка 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иск информ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стоятельная работа учащих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оставление результатов исслед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8:15:26Z</dcterms:created>
  <dc:creator>Григорий</dc:creator>
  <dc:description/>
  <dc:language>en-US</dc:language>
  <cp:lastModifiedBy>26095</cp:lastModifiedBy>
  <dcterms:modified xsi:type="dcterms:W3CDTF">2010-06-05T06:59:40Z</dcterms:modified>
  <cp:revision>11</cp:revision>
  <dc:subject/>
  <dc:title>Электромагнитные волны</dc:title>
</cp:coreProperties>
</file>